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569-34F2-4F1F-9DB3-B4FE18DC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88F-A293-44EA-B8FA-A2B6268F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2B2-F6A4-4472-BC3C-41574716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B65-9BBD-4304-853E-9EB635D7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8C6-8AE6-4178-B3EA-959FAD0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8D5-5216-48CF-8036-8CAF2271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EAB-3989-43A2-8541-8B5D692D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A65-979E-4ED4-AAA3-C129BFB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7A4-BD29-400E-97F9-F6AF6816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11E-19B0-4872-9B55-6245155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3C7-6C4C-4510-A84A-B837EE39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790-EC75-4BE6-B345-41C3239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345-5489-4B99-8717-50377A77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84240"/>
            <a:ext cx="8610480" cy="659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Structur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08640"/>
            <a:ext cx="487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koning.ecsu.ctstateu.edu/cell/cel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rounding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19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membrane of cell that controls movement in and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624852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found in plant cells 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&amp; protects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6172200"/>
            <a:ext cx="6248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s cel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from cytoplasm by 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genetic material -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two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s allow material to enter and leave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786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instructions for traits &amp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954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6248520"/>
            <a:ext cx="7086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RNA to build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95680" y="16905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095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4852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-like 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by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hereditary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materials around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type: lack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type (pictured): ribosomes embedded in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09588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contains thous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on ribosomes &amp; floating throughout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8446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6172200"/>
            <a:ext cx="5791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energy through chemical reactions – breaking down fats &amp;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level of water and other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s and decomposes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17220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lgi 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'packaging plant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13874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6078600"/>
            <a:ext cx="7315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'plant' for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undigested material to cell membrane for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breaks down if lysosome expl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6467400"/>
            <a:ext cx="7391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-bound sacs for storage, digestion, and waste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wat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plants maintain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6248520"/>
            <a:ext cx="617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und in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green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photosynthesis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176832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61722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of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436760" cy="229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919520" cy="1893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676520"/>
            <a:ext cx="2819520" cy="533160"/>
          </a:xfrm>
          <a:prstGeom prst="wedgeRoundRectCallout">
            <a:avLst>
              <a:gd name="adj1" fmla="val -78435"/>
              <a:gd name="adj2" fmla="val 3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1981440" cy="381240"/>
          </a:xfrm>
          <a:prstGeom prst="wedgeRoundRectCallout">
            <a:avLst>
              <a:gd name="adj1" fmla="val 97115"/>
              <a:gd name="adj2" fmla="val -512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4114800"/>
            <a:ext cx="2362320" cy="457200"/>
          </a:xfrm>
          <a:prstGeom prst="wedgeRoundRectCallout">
            <a:avLst>
              <a:gd name="adj1" fmla="val -34208"/>
              <a:gd name="adj2" fmla="val 2093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1596960" cy="2187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0" y="5029200"/>
            <a:ext cx="1981080" cy="457200"/>
          </a:xfrm>
          <a:prstGeom prst="wedgeRoundRectCallout">
            <a:avLst>
              <a:gd name="adj1" fmla="val -107291"/>
              <a:gd name="adj2" fmla="val 7777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7600" y="3048120"/>
            <a:ext cx="201924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276720"/>
            <a:ext cx="2057400" cy="533160"/>
          </a:xfrm>
          <a:prstGeom prst="wedgeRoundRectCallout">
            <a:avLst>
              <a:gd name="adj1" fmla="val 114736"/>
              <a:gd name="adj2" fmla="val 419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have structures surrounded by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inter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celled organisms,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6483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4008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pro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ounded by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75080" cy="364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172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3244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eu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8077320" cy="5862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61722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eb.jjay.cuny.edu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~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carpi/NSC/images/cell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324480"/>
            <a:ext cx="83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aynesword.palomar.edu/images/plant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2:38:52Z</dcterms:created>
  <dc:creator>Mary Poarch</dc:creator>
  <dc:description/>
  <dc:language>en-US</dc:language>
  <cp:lastModifiedBy>Mary Poarch</cp:lastModifiedBy>
  <dcterms:modified xsi:type="dcterms:W3CDTF">2005-02-13T21:11:58Z</dcterms:modified>
  <cp:revision>86</cp:revision>
  <dc:subject/>
  <dc:title>Cell Structure &amp; Function</dc:title>
</cp:coreProperties>
</file>